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417-C83A-4911-AA2E-1F97D3CB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B2AC-0311-419E-9703-C8083718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979-D083-4A8A-BF60-7B483434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6DB-D695-4B38-B282-BB50AFD6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6739-D2C1-4C15-9D1A-F0FC3B5A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D98A-CF46-4C64-9516-B7FE1E39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A593-454C-4E80-89F6-001433EC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40A5-238D-4CD5-BFF0-110C27E0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0B77-B620-4472-B8A0-BD8E2232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6151-616E-4557-9929-986BF2B5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7FEE-20D9-4562-B7A7-B84EC8A5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B0F-D778-4F10-B384-198409F1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7B3F-CFE7-4131-B8C9-28A317FA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2F16-E10D-4020-BC62-47AD7785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FBDD-EFD6-4D09-B08F-25133C6F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CF8D-5BB0-493E-9696-A1639CD7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5C74-7663-4DE8-8CAB-100A73A4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E81-1DBC-4541-938A-F8BC9600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45A-06AA-4AF3-B742-6BA37E82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CFD-5058-4C71-B2A0-57DBA6AE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DA2-7784-4285-A241-7B1C5671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F26-6D46-48C5-BBE8-8AB59276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FF8-6FF7-4B92-9EB9-DA4EAE07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87E-65EF-42E8-9163-FCD9C4E7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BF46-4526-444F-A6D7-A1A8EDE8A3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1E82-DCDD-4522-B076-7FF9940726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ooks.google.hu/books?id=29U9GeQQnSUC&amp;dq=%22Who&apos;s+who+in+economics%22&amp;printsec=frontcover&amp;source=bn&amp;hl=hu&amp;ei=a4SoS_vnBM_l-Qboxam9AQ&amp;sa=X&amp;oi=book_result&amp;ct=result&amp;resnum=4&amp;ved=0CBgQ6AEwAw#v=onepage&amp;q=&amp;f=false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6192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11"/>
                </a:solidFill>
                <a:latin typeface="Times New Roman"/>
              </a:rPr>
              <a:t>A LEGFONTOSABB REFERENSZ-MUNKÁK</a:t>
            </a:r>
            <a:endParaRPr b="0" lang="en-US" sz="5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ff66"/>
                </a:solidFill>
                <a:latin typeface="Times New Roman"/>
              </a:rPr>
              <a:t>7. Egyetemes gyűjtőkörű biográfiai összeállítások a közgazdaságtan területén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imes New Roman"/>
              </a:rPr>
              <a:t>Közgazdasági Nobel-díjas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11"/>
                </a:solidFill>
                <a:latin typeface="Arial"/>
              </a:rPr>
              <a:t>1. Közgazdasági Nobel-díjasok, 1969-2004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ötet 55 kitüntetett tudós életútját és tudományos munkásságát, eredményeit tartalmazz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11"/>
                </a:solidFill>
                <a:latin typeface="Arial"/>
              </a:rPr>
              <a:t>2. The Nobel Memorial laureates in economic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: An introduction to their careers and main published work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iadvány a közgazdasági Nobel-díjasok életrajzát, tudományos eredményeit és publikációinak jegyzékét foglalja magáb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43240" cy="3333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934320" y="3809880"/>
            <a:ext cx="1909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68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imes New Roman"/>
              </a:rPr>
              <a:t>Kortárs életrajzi összeállítá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700" spc="-1" strike="noStrike">
                <a:solidFill>
                  <a:srgbClr val="ffffff"/>
                </a:solidFill>
                <a:latin typeface="Arial"/>
              </a:rPr>
              <a:t>Who's who in economics, online: google book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7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books.google.hu/books?id=29U9GeQQnSUC&amp;dq=%22Who's+who+in+economics%22&amp;printsec=frontcover&amp;source=bn&amp;hl=hu&amp;ei=a4SoS_vnBM_l-Qboxam9AQ&amp;sa=X&amp;oi=book_result&amp;ct=result&amp;resnum=4&amp;ved=0CBgQ6AEwAw#v=onepage&amp;q=&amp;f=fal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1219320" cy="1676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5238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66"/>
                </a:solidFill>
                <a:latin typeface="Times New Roman"/>
              </a:rPr>
              <a:t>A magyar gazdaságtörténet szintézi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743200" y="1828800"/>
            <a:ext cx="5943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11"/>
                </a:solidFill>
                <a:latin typeface="Arial"/>
              </a:rPr>
              <a:t>Magyar Tudománytár 5. ,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11"/>
                </a:solidFill>
                <a:latin typeface="Arial"/>
              </a:rPr>
              <a:t>Gazdasá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magyar gazdaság másfél évszázada: gazdaságtörténet, reformelméletek és gazdaságpolitika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par és mezőgazdasá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frastruktúra és szolgáltatá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KGST-től az Európai Unióig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1905120" cy="26290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7120" y="472680"/>
            <a:ext cx="715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ff66"/>
                </a:solidFill>
                <a:latin typeface="Times New Roman"/>
              </a:rPr>
              <a:t>1. Brémond, Janine: Közgazdasági és társadalomtudományi kisenciklopédia (200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50800" y="1828800"/>
            <a:ext cx="5435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kisenciklopédia 135 szócikkben veszi sorra ábécérendben a legfontosabb közgazdaságtudományi, gazdasági, szociológiai, antropológiai, politikatudományi, jogi, politológiai, médiakutatási, munkatudományi stb. elméleti és gyakorlati fogalomkészletet sokféle megközelítésben, a legmodernebb szakirodalomra támaszkodva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magyar kiadás számára külön szócikkek készültek az átalakulásról, az Európai Unióról, valamint a nemzetközi tényezők áramlása kérdéseirő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A kép jelenleg nem érhető el."/>
          <p:cNvPicPr/>
          <p:nvPr/>
        </p:nvPicPr>
        <p:blipFill>
          <a:blip r:embed="rId1"/>
          <a:stretch/>
        </p:blipFill>
        <p:spPr>
          <a:xfrm>
            <a:off x="457200" y="2133720"/>
            <a:ext cx="2247840" cy="28191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4726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imes New Roman"/>
              </a:rPr>
              <a:t>21. századi enciklopédia</a:t>
            </a:r>
            <a:br>
              <a:rPr sz="3600"/>
            </a:br>
            <a:r>
              <a:rPr b="1" lang="en-US" sz="36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iklopédikus összefoglaló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95520" y="1828800"/>
            <a:ext cx="619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2604960" cy="3886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19920" y="1828800"/>
            <a:ext cx="2743200" cy="4038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2390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99ff66"/>
                </a:solidFill>
                <a:latin typeface="Times New Roman"/>
              </a:rPr>
              <a:t>3. The New Palgrave Dictionary of Economics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Macmillan Kiadó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a századfordulótól vezető terméke</a:t>
            </a:r>
            <a:r>
              <a:rPr b="0" lang="hu-H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819520" y="4648320"/>
            <a:ext cx="6019560" cy="13737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ttp://www.dictionaryofeconomics.com/dictio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57520" y="472680"/>
            <a:ext cx="602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line kiadá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98640" y="1905120"/>
            <a:ext cx="5888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100" spc="-1" strike="noStrike">
                <a:solidFill>
                  <a:srgbClr val="ffffff"/>
                </a:solidFill>
                <a:latin typeface="Arial"/>
              </a:rPr>
              <a:t>http://www.dictionaryofeconomics.com/resources/about_onli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100" spc="-1" strike="noStrike">
                <a:solidFill>
                  <a:srgbClr val="ffffff"/>
                </a:solidFill>
                <a:latin typeface="Arial"/>
              </a:rPr>
              <a:t>Demo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100" spc="-1" strike="noStrike">
                <a:solidFill>
                  <a:srgbClr val="ffffff"/>
                </a:solidFill>
                <a:latin typeface="Arial"/>
              </a:rPr>
              <a:t>http://www.dictionaryofeconomics.com/articles_az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228600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2579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99ff66"/>
                </a:solidFill>
                <a:latin typeface="Times New Roman"/>
              </a:rPr>
              <a:t>4. Concise Encyclopedia of Economics</a:t>
            </a:r>
            <a:br>
              <a:rPr sz="3600"/>
            </a:b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http://www.econlib.org/library/CEE.htm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7600" y="47268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99ff66"/>
                </a:solidFill>
                <a:latin typeface="Times New Roman"/>
              </a:rPr>
              <a:t>5. Handwörterbuch der Wirtschaftswissenschaft (HdWW)</a:t>
            </a:r>
            <a:br>
              <a:rPr sz="3200"/>
            </a:br>
            <a:r>
              <a:rPr b="1" lang="hu-HU" sz="3200" spc="-1" strike="noStrike">
                <a:solidFill>
                  <a:srgbClr val="99ff66"/>
                </a:solidFill>
                <a:latin typeface="Times New Roman"/>
              </a:rPr>
              <a:t>1-10. köt</a:t>
            </a:r>
            <a:r>
              <a:rPr b="1" lang="hu-HU" sz="2000" spc="-1" strike="noStrike">
                <a:solidFill>
                  <a:srgbClr val="99ff66"/>
                </a:solidFill>
                <a:latin typeface="Times New Roman"/>
              </a:rPr>
              <a:t>.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(Fischer Verla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59436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99ff66"/>
                </a:solidFill>
                <a:latin typeface="Times New Roman"/>
              </a:rPr>
              <a:t>6. Gabler Wirtschaftslexikon online </a:t>
            </a:r>
            <a:br>
              <a:rPr sz="3200"/>
            </a:br>
            <a:r>
              <a:rPr b="1" lang="hu-HU" sz="3200" spc="-1" strike="noStrike">
                <a:solidFill>
                  <a:srgbClr val="99ff66"/>
                </a:solidFill>
                <a:latin typeface="Times New Roman"/>
              </a:rPr>
              <a:t>demo: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ttp://wirtschaftslexikon.gabler.de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915400" cy="4876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057400" y="5638680"/>
            <a:ext cx="2819520" cy="398880"/>
          </a:xfrm>
          <a:prstGeom prst="rect">
            <a:avLst/>
          </a:prstGeom>
          <a:solidFill>
            <a:srgbClr val="ffff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Nyomtatott 8 köt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66"/>
                </a:solidFill>
                <a:latin typeface="Times New Roman"/>
              </a:rPr>
              <a:t>6. Szakszótárak </a:t>
            </a:r>
            <a:br>
              <a:rPr sz="4000"/>
            </a:br>
            <a:r>
              <a:rPr b="1" lang="en-US" sz="4000" spc="-1" strike="noStrike">
                <a:solidFill>
                  <a:srgbClr val="99ff66"/>
                </a:solidFill>
                <a:latin typeface="Times New Roman"/>
              </a:rPr>
              <a:t>– EISZ – on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ngol−magyar pénzügyi szótár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urópai uniós terminológiai szótár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(angol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urópai uniós terminológiai szótár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(német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urópai uniós terminológiai szótár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(francia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pos Anna Magdolna</cp:lastModifiedBy>
  <dcterms:modified xsi:type="dcterms:W3CDTF">2013-02-11T15:47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